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0A6-1BD3-49EE-AF9A-C11D6D01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7BA-D8B2-4792-98D8-6CC0EBD1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869-2FF2-49B9-BCDF-7F193F6B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393-1E35-498A-B7ED-3DB07384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5322-DD6D-4410-A853-812308F6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7578-E66B-494F-8458-B998D42A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B55F-99E1-4D75-8ACE-F5816CA7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6F24-8D11-4130-9117-3D21C600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D248-10FC-4783-A7C4-C3308DD1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B0AC-8BCC-43C0-8769-9AF24F0C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0C05-2516-4ADA-888A-B1B10A6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752-967D-4F85-A0E0-BADB6EB6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24D2-FAF0-409E-8F33-6333D6A8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1A11-5211-43C8-967B-CD75453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4B6D-4D0D-4637-B2E8-AA00C781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B491-3EF4-4EC9-A001-3E87AD82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9CD0-3DDB-4CD6-9F8F-67F13E73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9B2-F5A7-4E4C-871A-DEC2D269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278-A951-45F2-9D9B-8E02E27B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3F2-AE35-4E50-A9C6-BBEB9578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C7C-82ED-493D-AD0D-08D5AEBA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46F-EA7C-4087-B842-3D3252F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8E1-DE06-4ADC-AF66-E379B137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1A7-7C87-4214-B7CB-FF9CACA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4FD2-66AB-4BCF-BE8E-CDB1DDEEFF74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26B7-B60F-498A-95BC-87E90415AEE5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5d2204"/>
                </a:solidFill>
                <a:latin typeface="Arial"/>
              </a:rPr>
              <a:t>Tom Sawyer</a:t>
            </a:r>
            <a:endParaRPr b="1" lang="en-US" sz="75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d2204"/>
                </a:solidFill>
                <a:latin typeface="Arial"/>
              </a:rPr>
              <a:t>Vocabulary </a:t>
            </a:r>
            <a:endParaRPr b="0" lang="en-US" sz="75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d2204"/>
                </a:solidFill>
                <a:latin typeface="Arial"/>
              </a:rPr>
              <a:t>Chapters 1-10</a:t>
            </a:r>
            <a:endParaRPr b="0" lang="en-US" sz="75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Anatomy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The study of the body (p. 15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Apprehensively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Cautiously (pg. 56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Despair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Hopelessness (pg. 50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Loathe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To hate (pg. 4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Perplexed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Confused (pg. 16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Reluctance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Hesitation (pg. 11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Turmoil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Uproar (pg. 39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212164"/>
                </a:solidFill>
                <a:latin typeface="Arial"/>
              </a:rPr>
              <a:t>Wily</a:t>
            </a:r>
            <a:endParaRPr b="1" lang="en-US" sz="75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212164"/>
                </a:solidFill>
                <a:latin typeface="Arial"/>
              </a:rPr>
              <a:t>Sly (pg. 24)</a:t>
            </a:r>
            <a:endParaRPr b="0" lang="en-US" sz="75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1:20:05Z</dcterms:created>
  <dc:creator>Plantation Middle School</dc:creator>
  <dc:description/>
  <dc:language>en-US</dc:language>
  <cp:lastModifiedBy>Plantation Middle School</cp:lastModifiedBy>
  <dcterms:modified xsi:type="dcterms:W3CDTF">2009-10-23T11:30:16Z</dcterms:modified>
  <cp:revision>1</cp:revision>
  <dc:subject/>
  <dc:title>Tom Sawyer</dc:title>
</cp:coreProperties>
</file>